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1.gif" ContentType="image/gif"/>
  <Override PartName="/ppt/media/image14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058A8-5D2A-4D99-8779-B5CD367D2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4620F-6285-452B-AC7D-EAC46D4D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29F15-D066-4722-93EA-E2A2A5CBA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97FD0-5154-40D9-AD23-0F9CF2DBA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4C74-5B08-445C-B12E-FC15A432C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A7AB-51B9-4006-8D01-7228F64F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A6EC-C97E-4EB0-995A-37D6482D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28C1-9352-4189-B44E-4DD864EB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82DA-3F04-44F0-B743-BDD65FFA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E1CA-1BCA-43DF-83F4-618202FB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1625-366D-48B6-9F50-23E0DD4E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C044C-0D90-40F7-AF20-7671F987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0CC1-8CC9-43E6-A060-C7AFC966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39C1-DCC7-4A65-94F0-FF084678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B4F1-16B1-48D9-9BE4-BBE0E701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017E-717A-4AAA-9A82-CD80B8103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BAC6-2251-4C3D-8343-011BE7B5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13131-E113-4235-A423-A25CDF3C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2F4A2-ADBC-44ED-A7A7-1242D272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51EDB-FF93-4249-A106-F01B768C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E9A65-231B-49F4-BFF8-A0F30228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93F0F-8AFB-4816-82D3-94303713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084D2-07C8-4032-9C3B-CF0C1BD3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2D206-BBCC-4718-88CC-42D94278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F0F05-7522-4904-9E43-7B990F8A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E1B93-F7E2-4F78-BB8A-7DDEA209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8EE3D-3433-4237-8BD6-C11C405B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5F48E-96DC-408B-878F-C0C24E78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87A1E-0AF3-4AF4-8FD2-7AD153905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5B61A-0769-4F7E-872C-C36EE7A17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5A1E3-B484-40A0-9AC6-B26316E26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F25D9-BA48-41C3-9507-E7EA359B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1B22F-00F8-4036-852B-974BFFC5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17228-7609-4E6D-AC60-55887062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F0BF8-24C0-437E-A65D-9672C8B0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E7478-D359-4A5D-9B07-25B2E9E1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82380-5E47-449F-9ABE-0AF51B9F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88F8D-3FC8-4EDB-B09A-183EEABE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9F2F4-756A-4325-A90B-FFF104D8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CA79F-E23E-410C-BDDD-5091E8B5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52AF3-7DB8-4E00-921D-A29EE492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24854-899F-4CA4-A0DA-E0F270364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66DC4-9FC9-4695-B8E8-E3633214F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39821-3CD5-4737-BE74-3359243F4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FC540-26C1-47A5-AF37-D87E968E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655D6-164E-4666-A0E2-887AD3BC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1949F-0F0F-4943-B3FF-D0C49055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F33FD-E1CD-4BAB-99F9-1AEAF381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F760C-597B-4200-A293-9C36C460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F109E-78BF-4334-A33B-DBB50A61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88E20-C5E1-4A1A-8A3D-D4043BAE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C0F79-7439-4607-97E0-6011B134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E2D13-E9BC-426F-A50D-0A0B2ED9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F65E3-1184-461B-89F5-14D6B4C1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4F580-698F-4F59-886E-49490B052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CE4B9-8414-4E1B-BC79-C0F43A0D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8757F-8F71-444F-A549-EF7B9557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8DD77-4E63-44C5-B3DF-E78E9B76E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70802-1F82-4C54-BD10-A7AE73F0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7BEDF-E064-4142-9DE7-66799E88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37AF7-C887-443E-B16A-9E8F4E84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8F65E-3052-4868-B017-67E1A4BB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73AE5-5506-4679-82FE-96E956CF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6776E-4FFA-4310-AC6F-E036FBFA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18603-012F-4931-B442-2CF0E937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BCFF0-B265-4640-ABAD-24B8ED98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8DDEF-804E-4C19-B405-10C3E49A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0AC9A-CA9E-4984-92F1-17753E64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E497E-7E63-488E-AEFD-04A63C3C4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D5A1B-3609-471A-91F3-3F8A09772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7EFD69-E2FB-4DEA-BA20-EE7A8ADE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F93852-95A5-4283-9E7F-073D0340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C255D8-6F64-43D2-A63A-B4D00877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554A2D-BCED-4C85-A561-D5CC8E96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B10EFD-C352-4D05-B484-B3122CF5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5F0913-5160-4360-8867-3C7D2632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AF70C5-4201-4AE7-B6FE-C3BDE18D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26EC3-DEA0-4336-9116-F0E0EF86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DBDD0A-38B7-4BAE-969A-27BB6BEA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E0FF38-1594-44EA-A1B1-F3CD0265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508B59-9062-439C-B425-86CB2046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57EBD3-4D65-4466-93E7-65B384174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DEAC0C-AB43-4C6A-951A-1CA4DD80A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B7FCA-6272-4DB4-8DBE-14CDB1BEC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71CE2-2465-43A8-B263-694CD07C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0FE65-7B07-43E0-88CA-C7DC8AD9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119B3-655E-41F1-88FE-ED33CE28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5F72F-306F-47E8-8027-1F760A89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93C60-56BC-4078-82AD-5FC8A007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C2274-6FA9-48B7-B837-3ED4E2F6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F85C3-43B5-43B1-BEDA-4BF46A6E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D6DBE-8C0B-4389-A0BF-2709E08B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596C0-46D9-490A-AB8B-436DC55C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E562E-8100-4DB9-A68A-FA4B6277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94D88-0F0C-4422-A804-07F5D2CFC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5CAFF-0919-4B67-B211-70ADBDC4D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9551-8494-4360-9A05-F4343AE7B9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F179-3B25-42E6-8F7C-C2B753EE4A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07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C19F-AD39-434E-BE0B-2F71C60AF5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52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1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1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1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A365-F1B0-4E22-B4E1-7BDB9129E6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96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2EDD-F30D-41D7-8F69-58460D9C0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46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CD5E-80C3-4472-8597-F2481C127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9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D71C-594A-4BD8-826B-4789D8A5873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5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648F-AC39-4B3E-AC4C-F6BACB40229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mployees.csbsju.edu/aspring/Education/israel.htm#Four%20basic%20features" TargetMode="External"/><Relationship Id="rId2" Type="http://schemas.openxmlformats.org/officeDocument/2006/relationships/hyperlink" Target="http://www.jewishvirtuallibrary.org/jsource/History/scarcity.html" TargetMode="External"/><Relationship Id="rId3" Type="http://schemas.openxmlformats.org/officeDocument/2006/relationships/hyperlink" Target="http://www.traveldocs.com/il/economy.htm" TargetMode="External"/><Relationship Id="rId4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akeforestpilgrimage.files.wordpress.com/2008/07/sea-of-galilee.jpg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mages.google.com/imgres?imgurl=http://schema-root.org/region/middle_east/palestine/israel/government/officials/shimon_peres/shimon_peres.jpg&amp;imgrefurl=http://schema-root.org/region/middle_east/palestine/israel/government/officials/shimon_peres/&amp;usg=__QB3yV6VFOZ-HJVs60u5YaoEwGEo=&amp;h=301&amp;w=255&amp;sz=13&amp;hl=en&amp;start=10&amp;um=1&amp;tbnid=ut_iRWhVOJUJWM:&amp;tbnh=116&amp;tbnw=98&amp;prev=/images%3Fq%3Dshimon%2Bperes%26um%3D1%26hl%3Den%26safe%3Dactive%26sa%3DN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Photo: Israel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9ccff"/>
                </a:solidFill>
                <a:latin typeface="comic"/>
              </a:rPr>
              <a:t>Israel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comic"/>
              </a:rPr>
              <a:t>By Emily All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comic"/>
              </a:rPr>
              <a:t>An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comic"/>
              </a:rPr>
              <a:t>Brady Altlan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Places to Vis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Tourist Attra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Lohamei Hageta’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Historical Muse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Jewish site or artifact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Military attraction or muse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hmed el-Jazzar Mos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slamic site or artifact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Significant Historical Si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Temple 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Where it was believed to be the site that Abraham almost gave his son up for a sacri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orks Cite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ww.Travel.nationalgeographic.com/places/index.html Feb 16 2009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http://employees.csbsju.edu/aspring/Education/israel.htm#Four%20basic%20feature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 Feb 16 2009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ww.Israelmybeloved.com Feb 17 200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http://www.jewishvirtuallibrary.org/jsource/History/scarcity.htm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Feb 17 200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http://www.traveldocs.com/il/economy.htm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Feb 22 2009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://www.myjewishlearning.com/history_community/Medieval/MedievalSocialTO/Clothing.htm Feb 23 2009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://www.planetware.com/tourist-attractions-/acre-isr-nr-ak.htm Feb 23 2009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://www.asiarooms.com/travel-guide/israel/culture-of-israel/architecture-in-israel.html Feb 24 2009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"/>
              </a:rPr>
              <a:t>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7469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Land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Jordan River Val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Costal Pl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he Southern semi arid Negev Reg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Hill country of Gali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Mount Me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57200" y="5029200"/>
            <a:ext cx="7924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Bordering The Mediterranean Sea. Jordan, Egypt, Lebanon, and Syria border Isr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Sea of Galile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ke Kinne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 of Gali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astal Aqui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648320" y="1600200"/>
            <a:ext cx="40384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ur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sph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m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lf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ph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ga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2666880" y="3809880"/>
            <a:ext cx="2581560" cy="200340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mate/ Vege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mate: Temperat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ildca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ild Boars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azell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Vegetation Zones: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editerranea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rano-Turani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aharo-Arabi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dano-Zambesi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uro-Siberia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2305080" cy="297180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3"/>
          <a:stretch/>
        </p:blipFill>
        <p:spPr>
          <a:xfrm>
            <a:off x="5867280" y="4572000"/>
            <a:ext cx="2114640" cy="14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3505320" y="3809880"/>
            <a:ext cx="4600440" cy="304812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724120"/>
            <a:ext cx="3492360" cy="413388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overnmen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04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tical Lead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ident: Shimon Pe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estinian Leader: Mahmoud Abb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15080" y="1904760"/>
            <a:ext cx="3930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 Expectancy: 7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: 7,105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of Government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liamentary Representative Democratic Republ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Historical Ev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1967 6 day war; Jerusalem Reun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2006 New Prime Minister, Ehud Olm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srael responds to Lebanon roc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raeli soldiers examine the remains of a rocket fired from Leban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ROCKET FIRED FROM LEBANON HAS LIGHTLY WOUNDED THREE PEOPLE IN NORTHERN ISRAEL, THE ISRAELI ARMY SAYS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BANESE SECURITY SOURCES SAID THAT THREE ROCKETS HAD BEEN FIRED FROM SOUTHERN LEBANON BUT TWO HAD LANDED INSIDE LEBANESE TERRITO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BANESE SOURCES SAY THAT ISRAEL THEN FIRED AT LEAST SIX ARTILLERY SHELL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EBANESE PRIME MINISTER DENOUNCED BOTH ATTACKS. NO-ONE HAS CLAIMED RESPONSIBILITY FOR THE ROCKET FIR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LEBANESE SOURCE TOLD REUTERS THAT ROCKETS HAD BEEN FIRED FROM THE AREA OF MANSOURI, SOUTH OF TYRE, TOWARDS ISRA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WOMAN IS REPORTED TO HAVE BEEN INJURED BY FLYING GLASS IN HER HOME WHEN THE ROCKET LANDED NEAR THE ISRAELI TOWN OF MAALOT NEAR THE LEBANESE BORDER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SRAELI ARMY SAID IT HAD FIRED SHELLS IN RESPONSE TO THE ROCKET ATTACK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'UNJUSTIFIED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THE ISRAELI SHELLING IS AN UNACCEPTABLE AND UNJUSTIFIED VIOLATION OF LEBANESE SOVEREIGNTY," HE SAID IN A STATEMENT. "THE ROCKETS LAUNCHED FROM LEBANON THREATEN THE COUNTRY'S SECURITY AND STABILITY AND CONSTITUTE A VIOLATION OF UN SECURITY COUNCIL RESOLUTION 1701.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LUTION 1701 ENDED THE 2006 WAR BETWEEN HEZBOLLAH AND ISRA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RING THE RECENT CONFLICT IN GAZA, ROCKETS FROM LEBANON WERE FIRED INTO ISRAEL TWIC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ZBOLLAH DENIED RESPONSIBILITY FOR THOSE ROCKETS, SUSPECTED TO HAVE BEEN FIRED BY PALESTINIAN MILITANT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Israel map"/>
          <p:cNvPicPr/>
          <p:nvPr/>
        </p:nvPicPr>
        <p:blipFill>
          <a:blip r:embed="rId1"/>
          <a:stretch/>
        </p:blipFill>
        <p:spPr>
          <a:xfrm>
            <a:off x="6477120" y="304920"/>
            <a:ext cx="21524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Type of Industry: Agricul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ajor Ex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Citrus, Polished Diamonds, electronic communication, medical and scientific equipment, chemical products, electronics and computers, machinery and equipment, transport equipment, rubber, plastics, and textiles.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Literacy Rate: 9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urrency: New Israeli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hek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4.13 shekels = 1 U.S. Dol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Dome of the Rock"/>
          <p:cNvPicPr/>
          <p:nvPr/>
        </p:nvPicPr>
        <p:blipFill>
          <a:blip r:embed="rId1"/>
          <a:stretch/>
        </p:blipFill>
        <p:spPr>
          <a:xfrm>
            <a:off x="533520" y="502920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2286000" y="838080"/>
            <a:ext cx="4199040" cy="47865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533160" y="1828800"/>
            <a:ext cx="4002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Arial"/>
              </a:rPr>
              <a:t>Traditional Clothing: taylasin (a shawl like head covering) and the zunna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Arial"/>
              </a:rPr>
              <a:t>Traditional Foods: Kosher food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Arial"/>
              </a:rPr>
              <a:t>Architecture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Jerusalem Sto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684320" y="1828440"/>
            <a:ext cx="4002120" cy="16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Arial"/>
              </a:rPr>
              <a:t>Languages spoken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Hebrew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Arab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Englis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648320" y="3886200"/>
            <a:ext cx="411480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666633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Religions Practic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Jew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Christ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Isl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ul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9:11:16Z</dcterms:created>
  <dc:creator>emilyeallen</dc:creator>
  <dc:description/>
  <dc:language>en-US</dc:language>
  <cp:lastModifiedBy>emilyeallen</cp:lastModifiedBy>
  <dcterms:modified xsi:type="dcterms:W3CDTF">2009-02-24T14:46:55Z</dcterms:modified>
  <cp:revision>8</cp:revision>
  <dc:subject/>
  <dc:title>Israel</dc:title>
</cp:coreProperties>
</file>